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97360" cy="359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74880" y="4560840"/>
            <a:ext cx="536256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4144680" y="9121320"/>
            <a:ext cx="3166920" cy="476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36DBC-2B08-4BFB-B15D-802B61B33CC0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EFBC72-F4FE-4C42-B247-CBE5D8FE1A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9E8FB3-2335-4E37-BEC0-38C02B2748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12082-2586-49AE-8E29-6016630154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3042B4-4B50-429D-B3B7-23DED8A4C3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97590C-9BC5-4BCA-A0BF-4ACBC792F8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4E6E7-3451-480D-A340-9BA5824B1F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94FE18-C6D9-46BC-8FBE-9EB8987EC6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327C4C-4362-4128-B6D6-29800317EC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5E903A-454C-44F1-ABC5-D6B3F6C1F0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4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8F7B87-9453-44C8-8D54-F54BEF9BF3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4FBC89-BC76-47FB-A03B-297751166F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632CAD-BB53-4A5F-AA33-3BC22B8E86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47E3F8-13FE-471C-BEB7-EB479E7566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7969DC-B832-40DD-AC4C-0DB258D367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E0E81-B724-4226-A5B2-7327B079C1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39983-4139-479A-BF07-50E547330F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41D9F-305E-47C0-9809-8D2BEE5019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83F95-9EEC-4F3C-8A48-23A54DE589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AA331-8D73-4723-BA53-AF1FF6BCB6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8A402-82A1-468D-A5EC-057056CAA6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371B9-48E9-4453-8CA7-283F32C520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732F7-8DB7-4304-B421-F51AC9DEA1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CFAE4-A3A5-4B6E-82F2-8B302CA616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C252A-5005-4FF5-A9B1-E72D390E4D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032BA-EE8F-462E-89E5-CE65968349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59C29-A8CE-4FDE-A89D-DBF0B4A5C0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2240" indent="-279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2A93E9-FCB4-4236-9297-2F55747010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43000" y="38088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pperplate Gothic Bold"/>
              </a:rPr>
              <a:t>PBL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86200" y="5029200"/>
            <a:ext cx="3733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for the 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pperplate Gothic Bold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 cen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219320" y="1066680"/>
            <a:ext cx="571500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8600" y="4572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Managing a project: 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914400"/>
            <a:ext cx="6477120" cy="76320"/>
          </a:xfrm>
          <a:prstGeom prst="rect">
            <a:avLst/>
          </a:prstGeom>
          <a:solidFill>
            <a:srgbClr val="991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1174680"/>
            <a:ext cx="716292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void death-by-repetitive-presenta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aried answers to DQ or solutions to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fferentiate point of view / r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me DQ but use varied texts, places, times, people,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lture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oice of products / ways to present answer to D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885000" y="380880"/>
            <a:ext cx="1935000" cy="1981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" y="4572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Sample Project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914400"/>
            <a:ext cx="6477120" cy="76320"/>
          </a:xfrm>
          <a:prstGeom prst="rect">
            <a:avLst/>
          </a:prstGeom>
          <a:solidFill>
            <a:srgbClr val="991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1174680"/>
            <a:ext cx="716292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aching and Learning Gu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ject Calend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980400" y="228600"/>
            <a:ext cx="1935000" cy="19810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467160" y="457200"/>
            <a:ext cx="5676840" cy="5715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562720" y="106668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Getting Sta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43800" y="266688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lanning &amp; Prep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43600" y="5029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d6decf"/>
                </a:solidFill>
                <a:latin typeface="Calibri"/>
              </a:rPr>
              <a:t>Man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320040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flect &amp;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Reflect and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762120"/>
            <a:ext cx="3048120" cy="7596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1676520"/>
            <a:ext cx="3657600" cy="4038480"/>
          </a:xfrm>
          <a:prstGeom prst="foldedCorner">
            <a:avLst>
              <a:gd name="adj" fmla="val 12500"/>
            </a:avLst>
          </a:prstGeom>
          <a:solidFill>
            <a:srgbClr val="b9d7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1828800"/>
            <a:ext cx="365760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elebrate su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acilitate student self-  reflection and self-assess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ather feedback on project design and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Use data to remediate and to improve your 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llect examples of student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chive your 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435720" y="380880"/>
            <a:ext cx="2413080" cy="26672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28600" y="304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Reflect and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762120"/>
            <a:ext cx="3962520" cy="75960"/>
          </a:xfrm>
          <a:prstGeom prst="rect">
            <a:avLst/>
          </a:prstGeom>
          <a:solidFill>
            <a:srgbClr val="991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1219320"/>
            <a:ext cx="601956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lf and Peer Assessm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t expectations for honesty (improves ov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ime in a culture of PBL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k for evid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verage scores on collaboration rub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t students divide points for their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acher has last 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28600" y="533520"/>
            <a:ext cx="4876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Reflect and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0" y="761040"/>
            <a:ext cx="3962520" cy="7596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914400"/>
            <a:ext cx="7315200" cy="48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he How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ole group, focus group, small group, indivi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cussion, survey, jour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e Wh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tent: what was learned (correct misunderstandings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it me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cess: how we learned and worked; skills w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Project: the good, the bad, and the ug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 do we go from here? (future projects, skills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k on, connections to the course / next unit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851520" y="228600"/>
            <a:ext cx="192096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381880" y="1219320"/>
            <a:ext cx="609840" cy="380880"/>
          </a:xfrm>
          <a:prstGeom prst="rect">
            <a:avLst/>
          </a:prstGeom>
          <a:solidFill>
            <a:srgbClr val="ced0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1880" y="2057400"/>
            <a:ext cx="609840" cy="380880"/>
          </a:xfrm>
          <a:prstGeom prst="rect">
            <a:avLst/>
          </a:prstGeom>
          <a:solidFill>
            <a:srgbClr val="ced0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1880" y="3505320"/>
            <a:ext cx="609840" cy="380880"/>
          </a:xfrm>
          <a:prstGeom prst="rect">
            <a:avLst/>
          </a:prstGeom>
          <a:solidFill>
            <a:srgbClr val="ced0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1880" y="4876920"/>
            <a:ext cx="609840" cy="380880"/>
          </a:xfrm>
          <a:prstGeom prst="rect">
            <a:avLst/>
          </a:prstGeom>
          <a:solidFill>
            <a:srgbClr val="ced0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22860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critical – in a friendly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838080"/>
            <a:ext cx="4952880" cy="76320"/>
          </a:xfrm>
          <a:prstGeom prst="rect">
            <a:avLst/>
          </a:prstGeom>
          <a:solidFill>
            <a:srgbClr val="991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81080" y="1219320"/>
            <a:ext cx="6858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57400" y="1143000"/>
            <a:ext cx="6248520" cy="45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port: Group provides project overview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riv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estion, major student products, Entry Event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rifying: Audience asks short, clarifying ques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ood stuff (aprx. 4 minutes): Audience shares wh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y liked about projec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ondering stuff (aprx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 minutes): Audiences shares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ir concerns and unanswered ques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xt stuff (aprx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 minutes): Audience shares thei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oughts on resources and improvem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flection: Audience and group tal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2666880"/>
            <a:ext cx="685800" cy="1981440"/>
          </a:xfrm>
          <a:custGeom>
            <a:avLst/>
            <a:gdLst>
              <a:gd name="textAreaLeft" fmla="*/ 438120 w 685800"/>
              <a:gd name="textAreaRight" fmla="*/ 686160 w 68580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3429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d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48769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very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12193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19810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very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458200" y="1219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458200" y="2057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1880" y="3429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458200" y="4876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505320" y="990720"/>
            <a:ext cx="2935080" cy="5295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" y="3808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Begin with the end in mi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838080"/>
            <a:ext cx="4191120" cy="76320"/>
          </a:xfrm>
          <a:prstGeom prst="rect">
            <a:avLst/>
          </a:prstGeom>
          <a:solidFill>
            <a:srgbClr val="991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1066680"/>
            <a:ext cx="4267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ledge of science, history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terature, languag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ong work eth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ectful &amp; Ca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gan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ing/writing/math ski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10080" y="762120"/>
            <a:ext cx="34290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itical thinker/problem-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reciates diver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obal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chnology liter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cation ski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bb88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ks independently and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aborativ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y lifesty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09360" y="464832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390840" y="76320"/>
            <a:ext cx="5676840" cy="5715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562720" y="68580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Getting Sta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467480" y="236232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lanning &amp; Prep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29480" y="4495680"/>
            <a:ext cx="163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n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275904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d6decf"/>
                </a:solidFill>
                <a:latin typeface="Calibri"/>
              </a:rPr>
              <a:t>Reflect Perf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27640" y="30481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d6decf"/>
                </a:solidFill>
                <a:latin typeface="Times New Roman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Managing a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762120"/>
            <a:ext cx="3124080" cy="7596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3124080"/>
            <a:ext cx="5638680" cy="3048120"/>
          </a:xfrm>
          <a:prstGeom prst="foldedCorner">
            <a:avLst>
              <a:gd name="adj" fmla="val 12500"/>
            </a:avLst>
          </a:prstGeom>
          <a:solidFill>
            <a:srgbClr val="b9d7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3200400"/>
            <a:ext cx="58672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uilding a culture of inquiry &amp; independ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eginning the inquiry pro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naging group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eeping track of student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aching the inquiry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acilitating presentations to an aud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86600" y="152280"/>
            <a:ext cx="1828800" cy="19051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room Culture in P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1731600"/>
            <a:ext cx="6629400" cy="50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orm a team of five. Determine who will reflect about the following in the video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Hula to High Tech:  Nuuanu Elementary Schoo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ctive pedago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tudent responsibility for lear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tudent collabo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ositive relationships between students and adul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nections to the world outside the classro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85800"/>
            <a:ext cx="434340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8600" y="2286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Managing a project: Da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85800"/>
            <a:ext cx="5334120" cy="76320"/>
          </a:xfrm>
          <a:prstGeom prst="rect">
            <a:avLst/>
          </a:prstGeom>
          <a:solidFill>
            <a:srgbClr val="991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049400"/>
            <a:ext cx="716292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unch with Entry E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are Driving Question for Inquiry and create class KWH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view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Gothic"/>
              </a:rPr>
              <a:t>Directions for individual and group culminating produ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Gothic"/>
              </a:rPr>
              <a:t>Details about the exhibition and audien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unch workshops to build background knowledge for inqui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991827"/>
                </a:solidFill>
                <a:uFillTx/>
                <a:latin typeface="Times New Roman"/>
              </a:rPr>
              <a:t>Next steps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ld initial group mee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rite group contra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rite preliminary task l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tribute research noteboo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gin Research – Option: Facilitate through literature circ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912000" y="228600"/>
            <a:ext cx="1317600" cy="12193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943600" y="228600"/>
            <a:ext cx="2895480" cy="1550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304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The project 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762120"/>
            <a:ext cx="2971800" cy="75960"/>
          </a:xfrm>
          <a:prstGeom prst="rect">
            <a:avLst/>
          </a:prstGeom>
          <a:solidFill>
            <a:srgbClr val="991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00200" y="1066680"/>
            <a:ext cx="693432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hings to incl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Project Calend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Rubrics and Assess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source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Presentation/exhibition sche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Groups/teams ro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hecklist (due dates and points possible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Templates for contracts, task list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76520" y="3429000"/>
            <a:ext cx="69339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hat to do with the 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Make 1 copy per stu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Place packets in clearly marked project 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Point out their location after the Need to Know ac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fer all logistical questions (stuff in the packet) to the project 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ote: If project material is stored online, simply advise students where to find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2280" y="38088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Managing a project: Check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0" y="837720"/>
            <a:ext cx="6019920" cy="76320"/>
          </a:xfrm>
          <a:prstGeom prst="rect">
            <a:avLst/>
          </a:prstGeom>
          <a:solidFill>
            <a:srgbClr val="991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914400"/>
            <a:ext cx="716292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 produc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ugh drafts, concept maps, model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oryboards, plans, proposal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earch notes, practice present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sses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don’t grade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portunities for teacher and peer 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 proces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sts of questions for inqui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ournals / logs of time &amp; 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ource l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k groups to report /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et with group lea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172200" y="609480"/>
            <a:ext cx="2895480" cy="16956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105520" y="365760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28600" y="38088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Managing a project: Group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838080"/>
            <a:ext cx="6019920" cy="76320"/>
          </a:xfrm>
          <a:prstGeom prst="rect">
            <a:avLst/>
          </a:prstGeom>
          <a:solidFill>
            <a:srgbClr val="991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1295280"/>
            <a:ext cx="6934320" cy="43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ear criteria: collaboration rubric, contract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t of expectations / n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actice skills before and during proje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ing the workshop model to guide students through the process of creating high-quality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nitoring style: helicopter vs. predator dr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t with each group occasion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rts from groups / lead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try and exit pl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" y="4572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Managing a project: 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914400"/>
            <a:ext cx="6477120" cy="76320"/>
          </a:xfrm>
          <a:prstGeom prst="rect">
            <a:avLst/>
          </a:prstGeom>
          <a:solidFill>
            <a:srgbClr val="991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1676520"/>
            <a:ext cx="716292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range schedule, logistics in adv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vite audience, plan their role, provide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k questions to assess content and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dividual accountability in group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quire shared presentation du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Gothic"/>
              </a:rPr>
              <a:t>question each individual (abou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Gothic"/>
              </a:rPr>
              <a:t>an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Gothic"/>
              </a:rPr>
              <a:t>part of presentation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Gothic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Gothic"/>
              </a:rPr>
              <a:t>A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Gothic"/>
              </a:rPr>
              <a:t>n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Gothic"/>
              </a:rPr>
              <a:t> student may be asked to do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Gothic"/>
              </a:rPr>
              <a:t>an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Gothic"/>
              </a:rPr>
              <a:t>part of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Gothic"/>
              </a:rPr>
              <a:t>collect reports on who did what work to prep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885000" y="380880"/>
            <a:ext cx="1935000" cy="1981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ka Bauer</dc:creator>
  <dc:description/>
  <dc:language>en-US</dc:language>
  <cp:lastModifiedBy>David Ross</cp:lastModifiedBy>
  <cp:revision>0</cp:revision>
  <dc:subject/>
  <dc:title>PowerPoint Presentation  -  Title Here</dc:title>
</cp:coreProperties>
</file>